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2EB5-0BC7-4ED4-B148-C0941E92C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4942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D361-BD56-436C-8A72-982018C24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49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49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A9DF-8B7A-493B-9E80-8623192D9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7428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7428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4942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4942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4942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DF45-45BE-49FC-85A8-C78AC41CC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2D76B-485C-41CC-A7FE-55C197453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E687F-C130-40FB-BC07-83A4379FF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7A6CB-52A0-482C-81A8-C9CFAC4BD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27428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8851A-D99E-41F2-91E3-6A9F70596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16F31-3D01-4E1A-AC8F-406C16A62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23960" y="1295280"/>
            <a:ext cx="7772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610CC-695E-492E-ADDF-E70464538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7428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49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1EE1E-DBA1-4E53-ACBA-4F37B2C2F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FD8A-B303-44D7-912B-7A98C32D1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49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71302-DFDC-4E8E-9695-3108076E0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4942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BD666-0EE0-4101-8770-8BCE54702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4942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F6FAF-80B0-467D-BF6D-D564F61FB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49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49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59C1C-CF4B-4BDE-9CBD-69D7DA821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27428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27428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4942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4942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4942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390EC-5777-48FA-801D-29EDF5C95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576C-407C-4F80-BA22-093FE3436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7428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A49C-B430-48E4-B064-D88EE43FA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0189-6DE5-4702-8481-4DEEB6EC4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23960" y="1295280"/>
            <a:ext cx="7772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8138-D93D-4238-B77D-AE4C732D8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7428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49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3867-6CB2-4843-8DAA-1BB62B378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49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A702-1523-40EC-BBA4-13F96878F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4942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C67B-CC5A-4ADA-BDAE-85E859BAD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239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622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912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788B7-CB3C-42FD-B074-891F9ABB7C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295280" y="1701720"/>
            <a:ext cx="118080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93DCF-BDC2-449C-B1E3-8E657B882F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99840" y="1980720"/>
            <a:ext cx="6095880" cy="142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CG 641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6822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ced Accounting Informa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er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urse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will be expected to prepare models of business processes, specificall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Flow Diagra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w Chart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in Understanding of XBR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B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BL and XBRL-G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arily, to become consumers of information related to new technolog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1219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kiSp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mail Invitation or Click “Join”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in if you haven’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e-mail for Inv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mail address comes from e-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your pro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a Picture (nice but not requir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your e-community pi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aborative Web P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can Add material to any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can Edit material already posted to a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can Delete material posted to a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can Create a new page with new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Pages, Podcasts, Video, Audio,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ki Pages to Up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ounting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Mo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B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23960" y="1294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liver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SAD Wiki chapter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ed course agre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e May 2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next cla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to Exp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the concepts of 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s open the door. You enter by yourself”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old Chinese prover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ing the concepts (Group Ca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we have to learn to do, we learn by doing”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ristot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ing 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FD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wch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B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llabus Highli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. Steven Horn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ail: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shornik@bus.ucf.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rse Webpage: http://acg6415.wikispaces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ice Hours: Tuesday an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rsday 4:30-6:00; Tuesday and by appoin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fice: BA1 4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 (Yahoo): shorn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use Meebo Widget in Wikisp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23960" y="1294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xt Bo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ccountants Guide to XBRL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ed., by Clinton E Wh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only at http:www.skipwhite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s Analysis and Design Wi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2 and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A Gliffy Account – Web Based Modeling t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de Compon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 1 (Data Models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 2 (XBRL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iness Process Model (Group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Assignment (4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ion (Wiki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Po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ding Sc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2742840"/>
            <a:ext cx="38098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 4.00 100-9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- 3.75 92-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B+ 3.25 89-8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B 3.00 85-8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B- 2.75 82-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+ 2.25 79-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 2.00 75-7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7960" y="2742840"/>
            <a:ext cx="38098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- 1.75 72-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+ 1.25 69-6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 1.00 65-6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- 0.75 62-6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 0.00 &lt;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graded Assignments (UGH’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permitting we will do these in-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likely you’re group will do them in class, and we will ro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icip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cture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In Class, Ask Questions, New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W /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In Class, Prepared to discu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lity of p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ch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-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 solving / model buil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7T16:18:38Z</dcterms:created>
  <dc:creator>shornik</dc:creator>
  <dc:description/>
  <dc:language>en-US</dc:language>
  <cp:lastModifiedBy> </cp:lastModifiedBy>
  <dcterms:modified xsi:type="dcterms:W3CDTF">2009-05-18T17:18:19Z</dcterms:modified>
  <cp:revision>62</cp:revision>
  <dc:subject/>
  <dc:title>ACG 5405 Intro</dc:title>
</cp:coreProperties>
</file>